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24426"/>
        <c:axId val="90445531"/>
      </c:barChart>
      <c:catAx>
        <c:axId val="65424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5531"/>
        <c:crosses val="autoZero"/>
        <c:auto val="1"/>
        <c:lblAlgn val="ctr"/>
        <c:lblOffset val="100"/>
        <c:noMultiLvlLbl val="0"/>
      </c:catAx>
      <c:valAx>
        <c:axId val="90445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24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8A9-80BF-4BAE-81A2-E9B50F73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C9F-1135-4AA9-A2FF-55C5EC2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C70-A76C-4F70-980C-C311FB64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E27-7D99-40D9-A0E5-0F103E50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753-F0CA-46FC-B138-76113A21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FF4-5EED-471B-99D7-55A65407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959-AF8E-4AE7-9CCF-6CCCC31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940-B701-4E46-A728-9BEAC0B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75F-9231-446F-8EDD-93DD28E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144-CD3F-4F26-859D-A30B179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981-454F-4AAE-9A11-8A7950B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F1A-D146-449B-87C5-FF5AA11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85EB-7344-41FA-A6B6-21394CCA80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