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10053"/>
        <c:axId val="22673160"/>
      </c:barChart>
      <c:catAx>
        <c:axId val="34010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73160"/>
        <c:crosses val="autoZero"/>
        <c:auto val="1"/>
        <c:lblAlgn val="ctr"/>
        <c:lblOffset val="100"/>
        <c:noMultiLvlLbl val="0"/>
      </c:catAx>
      <c:valAx>
        <c:axId val="22673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10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6F3-20B0-4C72-AF93-1D934015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C56-7A8D-47DF-83FB-E5858BA0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B25-42FB-45C3-8B0B-8C9CF240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14E-035D-4BFA-A2AF-13478032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B4D-947F-4764-8E18-3CD186E6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286-2413-4EEE-ACB3-2057D41A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996-21FA-4C22-ABD3-0AA3BDEB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6D7-CAA6-4C6D-8C74-E2BA2DF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55C-8CC3-429D-8041-595291E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253-0E09-4E26-8D7F-DFF5018D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A3D-FD14-449F-8BE0-A2AAA17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A00-81FC-42C8-8585-85080B7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01E75-9BE5-4A00-84B6-2BB7D7DA65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