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86300"/>
        <c:axId val="41807455"/>
      </c:barChart>
      <c:catAx>
        <c:axId val="69886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07455"/>
        <c:crosses val="autoZero"/>
        <c:auto val="1"/>
        <c:lblAlgn val="ctr"/>
        <c:lblOffset val="100"/>
        <c:noMultiLvlLbl val="0"/>
      </c:catAx>
      <c:valAx>
        <c:axId val="418074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86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1D5-52C8-4701-B970-5265BF5A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DCC-D5A9-4A9A-B6FC-427D2794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74A-23DB-446F-9683-6578304E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CAF-E2B9-4F73-ACB3-BF59D34B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6538-F21F-4C55-811B-AC87A601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EFF-706B-47F7-B0C6-3D49B2A2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A130-B093-4145-B114-8E07E3FD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333-FCFE-4191-BA0A-7BD1FBC6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DC1-DF30-4E94-89B9-155BAB03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3F3-B980-439D-AD78-2D7D10F7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757-95B2-4831-89D9-1A4CCA96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6BA5-D19C-41DC-B563-63376639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2CF49-B66D-406D-822A-DD47DF7637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