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786948"/>
        <c:axId val="65257398"/>
      </c:barChart>
      <c:catAx>
        <c:axId val="767869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257398"/>
        <c:crosses val="autoZero"/>
        <c:auto val="1"/>
        <c:lblAlgn val="ctr"/>
        <c:lblOffset val="100"/>
        <c:noMultiLvlLbl val="0"/>
      </c:catAx>
      <c:valAx>
        <c:axId val="652573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7869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F2FC-C070-498F-94EF-6E49D9F3C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32C5-BAA9-4ADC-9BED-9719DF37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765C-3DC0-496F-B271-61766D9A1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82F0-E6C9-4697-9F91-2CAC6A54C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B9D5-6366-46EB-8ED9-ADB7B0C5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C6BE-F541-4188-94C1-91FD9A25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F5AF-3B7D-441C-9A83-6FB25D3C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9B97-AC20-4169-A273-5688D466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C6E6-E93F-40FA-B353-623718A0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BD42-97E7-4980-82DB-33402480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B5BB-C8A3-48A7-9F00-EC96B4C0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113A-3583-4D62-B118-5C1E7836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617B3-EA95-4DD8-AD43-5DA6B27764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