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1203"/>
        <c:axId val="12982607"/>
      </c:barChart>
      <c:catAx>
        <c:axId val="6601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82607"/>
        <c:crosses val="autoZero"/>
        <c:auto val="1"/>
        <c:lblAlgn val="ctr"/>
        <c:lblOffset val="100"/>
        <c:noMultiLvlLbl val="0"/>
      </c:catAx>
      <c:valAx>
        <c:axId val="12982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1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067-00BB-4E82-9199-AA869E3D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AFD-7356-4278-BE42-A91477F7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39C-CE30-40B1-9639-777CDE8F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AEB-5E35-4009-9B8D-979BC9DF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6A1-9BD0-420A-B91C-DF59FE51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2CB-56AB-417A-AAD9-081C3E25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F24-C9C1-440F-80E3-E4600DAB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6FE-18A9-4715-8C1C-A46EDCF6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841-657A-47B2-9784-22989724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FB4-D064-4666-8D8F-B4B739D6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BAA-B22C-4B84-B0E7-0B1E5B40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F00-F6CB-4266-8870-1853D83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3A1AF-4514-457D-9712-AE9B924BEA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