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5607207"/>
        <c:axId val="40742401"/>
      </c:barChart>
      <c:catAx>
        <c:axId val="9560720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742401"/>
        <c:crosses val="autoZero"/>
        <c:auto val="1"/>
        <c:lblAlgn val="ctr"/>
        <c:lblOffset val="100"/>
        <c:noMultiLvlLbl val="0"/>
      </c:catAx>
      <c:valAx>
        <c:axId val="4074240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60720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B4CD-6B70-408F-84F5-7DCDB1E44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9D6C-D626-45DD-BB36-0EBB9DE62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C031-B7CC-49F9-BDE8-C3BA3C0B8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1FAC-BC5E-41BD-AF08-A3AB72F28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18A0-026D-4F28-9496-B5ACE3F84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2AEC-B014-4345-B39B-3F4D52A3B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2853-8F55-4235-AE8C-4CB738285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7319-483E-402B-B4C7-735B67E7F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F297-1838-4152-85C9-4D4703950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6601-80E1-41AD-8D2F-2767CBC0A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73FB-F913-48C2-8149-A79024203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6C64-3F37-4CF6-AAEF-34426539A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55BDB2-3995-4739-99A2-739A1CB5C34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