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22940"/>
        <c:axId val="8359270"/>
      </c:barChart>
      <c:catAx>
        <c:axId val="20322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9270"/>
        <c:crosses val="autoZero"/>
        <c:auto val="1"/>
        <c:lblAlgn val="ctr"/>
        <c:lblOffset val="100"/>
        <c:noMultiLvlLbl val="0"/>
      </c:catAx>
      <c:valAx>
        <c:axId val="8359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22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F82-9BB9-40F8-BB77-B3016D35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FA9-46F4-45F6-ABCD-E90E6C71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1D4-C88C-4870-8ADA-3C04DEB6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85C-42FC-443B-BA4C-5177F5CA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267-A00B-480C-8EC9-C4886C6D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33C-DFC2-4073-B5EF-5C2AC169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B4A-D3B0-4773-BBFE-C456FF6B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B94-EF51-46C2-82F5-452BF151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81B-623E-4D5C-8194-D88DC988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345-B830-468A-9C85-03BD332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FCA-29A9-44E3-9D8E-C1E8C2CE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B60-0885-49BC-9997-4DAE9A56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A0517-133D-4293-9762-9033ECFBE5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