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7220"/>
        <c:axId val="66139083"/>
      </c:barChart>
      <c:catAx>
        <c:axId val="83637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39083"/>
        <c:crosses val="autoZero"/>
        <c:auto val="1"/>
        <c:lblAlgn val="ctr"/>
        <c:lblOffset val="100"/>
        <c:noMultiLvlLbl val="0"/>
      </c:catAx>
      <c:valAx>
        <c:axId val="66139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7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05F-1F99-4B4D-8BFD-DD712D5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AE3-F5AB-4956-A6EF-C8C6E7C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0BE-A62B-45B0-8870-5B48C52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7DD-B1F4-4FDE-9D13-358A618E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538-1374-47EA-B5C1-993E537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01E-6754-46F7-AE59-378A35C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E6B-9EA4-466C-9142-EB8563F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08A-06B6-4017-8343-DD1DB59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CAC-66AE-4338-A961-EA53D0C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9F7-C593-4D82-9DEC-D15BFD2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93B-2A6E-4DFB-A29F-00C4FCB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CA6-FF8D-4DE0-9046-BBFDE42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359E3-BFAB-401C-AAEA-C7488F2C7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