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3717"/>
        <c:axId val="99845974"/>
      </c:barChart>
      <c:catAx>
        <c:axId val="9133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45974"/>
        <c:crosses val="autoZero"/>
        <c:auto val="1"/>
        <c:lblAlgn val="ctr"/>
        <c:lblOffset val="100"/>
        <c:noMultiLvlLbl val="0"/>
      </c:catAx>
      <c:valAx>
        <c:axId val="99845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2DE-4495-4F69-997D-699FDB92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D00-67CC-4D95-A315-3A3C79D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751-D159-4D1A-AAA6-66FD5880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E41-41A1-49D2-B8BD-9E43B1D1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82E-922C-4239-AA54-4B85EEDF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7B7-F0E4-478A-8CDE-93B542A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BA8-6EF4-4FF6-B24F-66C19A2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CA5-AF83-45E1-A49C-6FBB316E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EDD-4458-4D4E-AEA0-02E99FC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48B-4B87-4F5D-8EE9-64C71DF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689-C88A-4FEB-809A-C87B584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605-512F-4662-B342-2EDF4CC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C0C9-94A2-4032-8D7A-53D176FD1E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